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3AA1-A3E5-4A4D-99B3-C5120C91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16DF-D902-498A-8165-2FC49ACB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E795-3C86-429E-B73E-DB1CF1AD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06CB-F3C8-4272-8B50-71D07E92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1C24-3061-4EDF-8F37-1E8BE50C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396C-5B96-49D0-A4C2-117177B9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96ED-8DA3-448B-82C0-83ABB7CC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3F25-4603-422A-BAA5-46C5062C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3741-14E0-4EBC-BA08-707127C0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3E8C-FE97-4B27-B684-1ECBE5CF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4170-9727-41BF-8906-3F66BBBD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EDCB-0CCE-4662-8BF0-D75E5A62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3CACB3-D736-49A2-BFB7-B4159BD243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485B4-3BFF-4F69-AD00-EB2B58E32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Describe yesterday’s weather.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7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alibri"/>
              </a:rPr>
              <a:t>How are stationary and warm fronts similar?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8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alibri"/>
              </a:rPr>
              <a:t>Which type of front causes thunderstorms?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9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alibri"/>
              </a:rPr>
              <a:t>If a cold front is moving toward Clarksdale, what kind of weather should we expect?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sure Symb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“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L” stands for low press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Low pressure usually causes rain and storm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“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H” stands for high press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High pressure usually predicts nice weath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1. What is the effect of low pressure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2. What is the effect of high pressure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ont Symb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035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old fronts are shown as a line of blue triangl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Warm fronts are shown as a line of red half-circl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Stationary fronts are shown as a line of alternating blue triangles and red circl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Occluded fronts are shown as a line of purple triangles and cir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rection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500" spc="-1" strike="noStrike" u="sng">
                <a:solidFill>
                  <a:srgbClr val="000000"/>
                </a:solidFill>
                <a:uFillTx/>
                <a:latin typeface="Calibri"/>
              </a:rPr>
              <a:t>Fronts move in the direction of the shapes.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4697280" y="3710160"/>
            <a:ext cx="444672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248000" y="847800"/>
            <a:ext cx="3116520" cy="2511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146160" y="360360"/>
            <a:ext cx="2925720" cy="3187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3"/>
          <a:srcRect l="15970" t="33114" r="44965" b="48239"/>
          <a:stretch/>
        </p:blipFill>
        <p:spPr>
          <a:xfrm>
            <a:off x="1611360" y="5203800"/>
            <a:ext cx="3220920" cy="836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4"/>
          <a:stretch/>
        </p:blipFill>
        <p:spPr>
          <a:xfrm>
            <a:off x="6456240" y="3078000"/>
            <a:ext cx="12369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600" spc="-1" strike="noStrike" u="sng">
                <a:solidFill>
                  <a:srgbClr val="000000"/>
                </a:solidFill>
                <a:uFillTx/>
                <a:latin typeface="Calibri"/>
              </a:rPr>
              <a:t>4.10 Independent Practice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957960" y="484812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ticipatory S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ckground Info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dependent Practi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os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am challenge 2 will be tomorro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4.10 Weather Maps Background Info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1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Calibri"/>
              </a:rPr>
              <a:t>Does a cold front cause the temperature to increase or decrease?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Does a warm front cause the temperature to increase or decrease?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3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alibri"/>
              </a:rPr>
              <a:t>Does an occluded front cause the temperature to increase or decrease?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4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Does a stationary front cause the temperature to increase or decrease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5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What kind of precipitation does a stationary front cause?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6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What kind of precipitation does a cold front cause?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4:02:51Z</dcterms:created>
  <dc:creator>Caroline Roth</dc:creator>
  <dc:description/>
  <dc:language>en-US</dc:language>
  <cp:lastModifiedBy>Caroline Roth</cp:lastModifiedBy>
  <dcterms:modified xsi:type="dcterms:W3CDTF">2011-05-24T02:48:18Z</dcterms:modified>
  <cp:revision>9</cp:revision>
  <dc:subject/>
  <dc:title>Bellringer</dc:title>
</cp:coreProperties>
</file>